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0F7B-B65E-4699-B635-5AE9DD177E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34AB-488B-4C52-81FE-63B14A308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CCBE-A8A4-4B4A-9664-955952DDF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3A6C-9AA9-4AC6-9710-8D0691E63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5AF6-1CA5-4A0C-8E38-1A5F90D88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2B74-F51F-4C7E-87FF-27F4C2165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D64E-D47D-4EF5-A24B-ABDE58BAD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C7EF-BE5A-4E4B-B8A2-95C443039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4910-B826-4228-844F-4B5607244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872F-A26E-456B-8A0D-27852E802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0B4-11F8-4E1B-A75D-08E67DD1C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16DF-31B0-4DDF-8560-F959E68C5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D023-F136-4E74-BE2E-E95258265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CF63-B5A8-4518-A5E1-1A7F2B4F9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3C9E-F643-4FEC-AB63-4FCF41D4B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2049-DEBE-4575-BE84-D00916FC2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24CA-2207-4121-8A3C-9982C0D3C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1072-EE44-439A-8E74-24DBD0C12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950C-ECDC-42A5-A601-077953D10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0A43-0FA4-4FF4-BFA6-131D8EEF0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C090-6945-45B1-B4AF-B4A3710D0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ABD5-90F4-4D92-B8F5-0285B516D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82F-6DE6-4833-9BE9-BE54844FE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74D2-6D94-434C-935D-6B5A272C9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9781-8A9C-4D29-B3E6-37F7D0E5E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191D-08B4-471E-AFF6-ECF220721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617F-0668-432D-879E-D89CE9D92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AFFD-E8B6-4EE5-A93C-F3FFA5AAF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E96-D450-43A2-8A94-9BDA0EB92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28E5-6272-479E-85DE-83E932A88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CC3-FC54-4181-B17C-9B394A9C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FD6-3117-41B6-B880-3C02AAF9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586-F20C-4A30-8EB5-F9DBEE40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773-7E49-4D06-BD28-9A87A3F8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67B-5DC1-43B9-A967-C5B5B4F6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B0E-BF28-4CCF-90AE-FC538F80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129-570B-46A4-BF7D-8163DC06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5D9-9C90-472C-AB76-1C1C4D78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378-07EA-4CC8-98CB-8113210F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E07-B428-42CA-A017-9D731D7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18D-94C2-4430-885C-64ABEE8E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121-88AA-4288-AB6C-53910E0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6A26-B6B4-4F8C-A68E-78BC626282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18F9-CE59-45E3-8CE9-CCCB96BED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The total number of individuals that an environment can support is call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densit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 exponentia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 level-of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. 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An example of commensalism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ants on a tree-the ants get food and the tree gets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 Tapeworm feeding off of a h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. Barnacles on a whale-the barnacles get food and the whale does not even know they are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. A bird on the back of a bongo-the birds gets insects to eat and the bongo gets clea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ea urchin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ea Otter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Killer wh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population of killer whales increases, what happens to the population of sea ot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3446640" cy="289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562720" y="3200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ea otter population de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to the population of sea otters if the population of killer whale decre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282888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35924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pulation of sea otters in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to the population of sea urchins if the population of sea otters incre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200400" y="370692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pulation of sea urchins de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happen to the population of killer whales if the population of sea urchins decre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743200" cy="211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954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pulation of killer whales will decr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you can see, the population is strongly connected to the food chains within an eco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993760" cy="233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44766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ation 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834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sitism and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sitic organisms range in size from microscopic, disease-caus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bacteri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apeworm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 cm or more in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sites t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ourish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t the expense of thei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often weakening them and causing disease or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660920" cy="315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976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nsity-In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nsity-independent factors-aff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pulations in similar way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egardles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popula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Unusual 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atural dis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eason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uman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nsity-In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response to these factors, many species show a characterist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ras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 population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fter the crash, the population may soon build up again, or it may sta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ow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or so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320" y="114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y/Rabbit Population 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ing factors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2640" indent="-242640">
              <a:spcBef>
                <a:spcPts val="8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Calibri"/>
              </a:rPr>
              <a:t>Article 2 Due Wednesday!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 where both species benefit-pollinators and flow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u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ype of succession starts from scratch, it is caused by volcanoes and glaci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ological and physical condition in which an organism fits into an environment and the way in which they use resources is called the organism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iome has permanent frozen soil called permafr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iome has deciduous trees, like oak and maple-it’s also where we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its to Population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uided Notes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e fo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514600" cy="294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962520" cy="412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880080" cy="290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1066680" y="5257800"/>
            <a:ext cx="42674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imiting factor-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actor that causes population growth to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miting factors can be densit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-depend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ensit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-indepen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-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miting factor that depend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alled density-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-dependent factors become limi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the popul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ns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the number of individuals per unit area) reaches a certai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factors operate most strongly when a population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-Dependent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asit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populations become mo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rowde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organism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pet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ith one another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oo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pa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unligh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other essent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etition among the same species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traspe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etition among different species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terspe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: Puffins must compete for limited nesting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ff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27644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egulation of a population by predation takes place with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redator-pre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predator prey-relationships can be depict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the population of the predator increases, the population of the pr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creas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the population of the predator decreases, the population of the pr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creas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gela Gorney</cp:lastModifiedBy>
  <dcterms:modified xsi:type="dcterms:W3CDTF">2011-02-05T22:14:47Z</dcterms:modified>
  <cp:revision>3</cp:revision>
  <dc:subject/>
  <dc:title>Warm-Up / EOC Prep</dc:title>
</cp:coreProperties>
</file>